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4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1B8-31EF-48AD-A354-9D73A077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FC2-A071-4462-A261-22DC42CC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27D-0DC4-405C-A1F4-F8542DB6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0C4-A495-4374-8F5B-0BA74F0B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7BFA-8FDD-44B0-B9C1-2D2B0C13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8DB5-1BB4-4819-9150-92F75C31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7E40-538D-4D79-90F1-5B489F06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1611-17D1-4493-B573-D1897B72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A01C-1A3C-4DC8-9F39-6396B6CD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9D49-2F8E-4280-8E87-2ED14A07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D41E-B72E-4078-84A0-F39F703E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C13-21CB-4926-B8B8-4CEE1F48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ABB7-1372-4B9B-A33D-866D8973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93A2-8D1D-49FD-8BB8-05892F26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5627-5E36-4073-B042-50A44280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391D-9655-4F60-BCBF-2AD45E7F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4E04-6989-4B96-B658-AF22FAD3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39328-37E9-4D93-BA98-3A1DAAA8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504EA-0CCC-470E-86A2-25889A43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AB125-4217-419F-ABDC-E4544DE0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E80D8-04F8-44F4-ADD6-52294D70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73EA9-8999-483E-AE1A-3016CF3C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490-11FD-4430-AE1A-07EFEAA8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3ED9-1C6B-423E-8C34-407AB5FD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314D-7B52-41BD-8FF6-B527C16B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76ED4-0EFA-4A08-A09B-B611803A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2196C-3BFD-4F8C-B692-345D07F7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4A92-3923-479B-AABE-9F6C6075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AA1A3-98D9-49E2-A693-43C7ED7F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9131C-C4CB-4AB5-8AB0-010146E5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BA88E-BCF8-4439-B4BA-A4DEF7D8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2915F-B8F0-432C-9B71-5B33794B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488E8-369B-4AB5-9380-466AC4CD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8B0-2F12-4D00-BC20-151252C7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608E9-4167-441B-89CD-62063753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CB0B1-B909-4FA2-A368-566A5B67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5F269-B18D-4498-BCBB-EA96D2A0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00BC1-827C-4E93-A989-155BA4E4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61B2D-C51A-47C7-B5D5-2F9FF5D4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29955-3590-4D59-9D98-05A10E43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A9579-7487-4702-A204-9EB54A95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E444C-245A-493B-B065-603602D2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967DD-DC89-424B-AB18-13C96FF8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4367A-6498-4206-903F-94B3DB59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C00-9191-4933-BAD0-74CBAFEC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7E80B-D0EF-4958-B891-8E021659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0975F-AFB7-4692-85FF-C936A1EE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8575D-FB8F-4184-8FB3-6BAEFF8E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B40D5-8B78-400B-902C-659CA0E7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DC134-2316-430F-A505-0EFC1FB6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F5342-E3C5-4BBE-94BF-94D020D6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A1EF9-B4DD-42EA-BBE3-BD9077BE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5464D-2C21-4203-8513-FF31FBE5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D0E4E-DBE6-4261-BD03-531B710E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BBDDC-F05E-4B7E-965A-DBAF09EB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FFB-D947-47D1-89D8-0FF12767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7FC73-B978-4C7E-8780-A32333B5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DB62-59C9-4C83-A50F-458E8FE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34F-23EB-42C4-9061-16ABABD0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8FF-E1A9-44C4-8E7F-90F18A9C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86AA-9BE0-4A76-B12B-CCE7A6D4AECF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A5AB-B616-4397-BE91-19BD2D0D1140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CC58-3AF9-4537-A30C-2CCEEBABEB1F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E50E-B07D-4E9C-8AC0-B00702B24ED3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D29F-B938-4C04-AB73-8C71F8254836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231840" y="2127240"/>
            <a:ext cx="4419360" cy="16034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ountries and Capital Citie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Ecuado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Quito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equator runs through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Ecuador which is on th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west and on the Pacific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de of South Amer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ecozones of Ecuador a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mountain (Andes) and rainfores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(Amazo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5" name="Picture 3" descr=""/>
          <p:cNvPicPr/>
          <p:nvPr/>
        </p:nvPicPr>
        <p:blipFill>
          <a:blip r:embed="rId2"/>
          <a:stretch/>
        </p:blipFill>
        <p:spPr>
          <a:xfrm>
            <a:off x="4540320" y="83808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2446200" y="3618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Columbi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Bogotá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olumbia is in the north of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outh America and has borders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on both oceans.  Centra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merica connects to Columbi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olumbia’s ecozones includ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mountain (Andes) and rainfores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(Amazo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2743200" y="53352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4952880" y="76212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Venezuela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Caraca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Venezuela is on the north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nd on the Atlantic side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of South Amer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Venezuela’s ecozone i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ainforest (Amazo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3895920" cy="5715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2819520" y="533520"/>
            <a:ext cx="14284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Guyan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Georgetow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uyana is on the north an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on the Atlantic side of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outh Amer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uyana’s ecozone i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ainforest (Amazo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2428920" y="45720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4952880" y="87300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Surinam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Paramaribo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uriname is on the north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nd on the Atlantic side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of South America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uriname’s ecozone i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ainforest (Amazo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2666880" y="4572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"/>
          <p:cNvPicPr/>
          <p:nvPr/>
        </p:nvPicPr>
        <p:blipFill>
          <a:blip r:embed="rId3"/>
          <a:stretch/>
        </p:blipFill>
        <p:spPr>
          <a:xfrm>
            <a:off x="4952880" y="77472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French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uiana is Cayenn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rench Guiana is a territory of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rance and lies on the north an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on the Atlantic side of South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mer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rench Guiana ‘s ecozone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rainforest (Amazo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5" name="Picture 3" descr=""/>
          <p:cNvPicPr/>
          <p:nvPr/>
        </p:nvPicPr>
        <p:blipFill>
          <a:blip r:embed="rId2"/>
          <a:stretch/>
        </p:blipFill>
        <p:spPr>
          <a:xfrm>
            <a:off x="3454560" y="53352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"/>
          <p:cNvPicPr/>
          <p:nvPr/>
        </p:nvPicPr>
        <p:blipFill>
          <a:blip r:embed="rId3"/>
          <a:stretch/>
        </p:blipFill>
        <p:spPr>
          <a:xfrm>
            <a:off x="5029200" y="851040"/>
            <a:ext cx="3895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e6d0"/>
                </a:solidFill>
                <a:latin typeface="Tw Cen MT"/>
              </a:rPr>
              <a:t>There are 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e6d0"/>
                </a:solidFill>
                <a:latin typeface="Tw Cen MT"/>
              </a:rPr>
              <a:t>12 countries and 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e6d0"/>
                </a:solidFill>
                <a:latin typeface="Tw Cen MT"/>
              </a:rPr>
              <a:t>1 territory in 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e6d0"/>
                </a:solidFill>
                <a:latin typeface="Tw Cen MT"/>
              </a:rPr>
              <a:t>South America.  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3803760" y="304920"/>
            <a:ext cx="4809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Chile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Santiago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hile is in the south and on the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acific side of South Amer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hile’s ecozon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ncludes desert (Atacama)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nd mountain (Ande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4876920" y="1062000"/>
            <a:ext cx="3743280" cy="5491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209680" y="4572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Argentina is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uenos Air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rgentina is in the south and on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Atlantic side of South Amer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rgentina’s ecozones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nclude mountain (Ande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nd grassland (The Pampa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5029200" y="949320"/>
            <a:ext cx="3819600" cy="5603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2971800" y="501480"/>
            <a:ext cx="14288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Uruguay i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Montevideo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Uruguay is in the south and on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Atlantic side of South America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Uruguay’s ecozon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grassland (The Pampa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2819520" y="53352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3"/>
          <a:stretch/>
        </p:blipFill>
        <p:spPr>
          <a:xfrm>
            <a:off x="4952880" y="83808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Paragua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Asunció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araguay is in the central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art of South America an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completely land locke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(not next to any ocea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araguay’s ecozone i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rassland (The Pampa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2895480" y="609480"/>
            <a:ext cx="1428840" cy="790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3"/>
          <a:stretch/>
        </p:blipFill>
        <p:spPr>
          <a:xfrm>
            <a:off x="4952880" y="83808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The capital city of Bolivia 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is La Paz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Bolivia is in the central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part of South American and 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is completely land locked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(not next to any ocean)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Bolivia’s ecozones include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mountain (Andes), grassland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(The Pampas) and rainforest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(Amazon)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2428920" y="533520"/>
            <a:ext cx="1428840" cy="971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4952880" y="83808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Brazi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Brasili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biggest country in South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merica is on the Atlantic side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of the continen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razil’s ecozones a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ainforest (Amazon) an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rassland (The Pampa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2286000" y="380880"/>
            <a:ext cx="1428840" cy="1000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4876920" y="757080"/>
            <a:ext cx="399240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Peru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Lim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eru is in the west and on th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acific side of South Amer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eru’s ecozones include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esert (Atacama),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ainforest (Amazo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nd Mountain (Ande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3895920" cy="5715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3"/>
          <a:stretch/>
        </p:blipFill>
        <p:spPr>
          <a:xfrm>
            <a:off x="2133720" y="361800"/>
            <a:ext cx="14284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16:02:12Z</dcterms:created>
  <dc:creator>ladmin</dc:creator>
  <dc:description/>
  <dc:language>en-US</dc:language>
  <cp:lastModifiedBy>Terry, Sean J. (ASD-E)</cp:lastModifiedBy>
  <dcterms:modified xsi:type="dcterms:W3CDTF">2017-12-06T02:16:02Z</dcterms:modified>
  <cp:revision>14</cp:revision>
  <dc:subject/>
  <dc:title>South America</dc:title>
</cp:coreProperties>
</file>